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543EF-3C59-400D-B258-F34E79453DC0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201760" y="357120"/>
            <a:ext cx="2603520" cy="19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583920" y="2850840"/>
            <a:ext cx="5869080" cy="574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1468440" y="8570880"/>
            <a:ext cx="42307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63F80-895B-47C1-80B4-44B535E8F4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0AB9C-19E0-4A4F-8F98-C7093AA355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02DAFE-AFEB-428F-972C-9FDEFD9A6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3B460-A24F-4ABA-ADB8-439AB76A09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1A7771-F376-4C28-8464-5CAA216E6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FEF41-EC33-4C11-8084-762B9CD5E7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D56CEF-7297-40D2-BC0D-2966F7D44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6B2-82E6-4B30-8360-BBC7DAE1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AE9-A7D5-49DD-9BAD-D9AA8F8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92D-FDCC-4A8C-90BC-ADFA9623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CD9-E062-4BC6-A2FE-31FCB717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270-F417-476E-B8BF-E34AB81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632-05C5-461B-8395-6572FB33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948-EF0A-433D-8EE8-65BB72D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34C-0665-4E0B-9409-9AED7F14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ADD-259D-4C35-A55C-27FBCED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E38-209E-46A8-8348-EA86F54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1D8-0FCA-403E-95B9-09A9005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AE5-B53E-4D0A-8631-FF0DF18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698-9605-4EF4-B9FE-F67D7B73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gradFill rotWithShape="0">
            <a:gsLst>
              <a:gs pos="0">
                <a:srgbClr val="52a25a">
                  <a:alpha val="65098"/>
                </a:srgbClr>
              </a:gs>
              <a:gs pos="100000">
                <a:srgbClr val="006e61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52a25a">
                  <a:alpha val="71372"/>
                </a:srgbClr>
              </a:gs>
              <a:gs pos="100000">
                <a:srgbClr val="004a48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ging.sonomatech.com/feeds_airnowgateway_org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ging.sonomatech.com/GoogleMapDemo/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staging.sonomatech.com/GM_www_mahoningvalleyair_org/aqlocalmaps.cf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e3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23840"/>
            <a:ext cx="91440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RNow-International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ture of the United States real-time air quality reporting and forecasting program and GEOSS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4560" y="1287360"/>
            <a:ext cx="4946760" cy="369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91280" y="6086520"/>
            <a:ext cx="2857320" cy="39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1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 E. Whi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RSE - Session: Air Quality and GEOSS - TS34-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SS AIRNow Gateway F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733920" y="5867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RSS F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RSSfeeds.jpg"/>
          <p:cNvPicPr/>
          <p:nvPr/>
        </p:nvPicPr>
        <p:blipFill>
          <a:blip r:embed="rId2"/>
          <a:stretch/>
        </p:blipFill>
        <p:spPr>
          <a:xfrm>
            <a:off x="2133720" y="1219320"/>
            <a:ext cx="49496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Now-International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7760" y="1457280"/>
            <a:ext cx="870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 will be URL based initially (REST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Mapp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map images with desired data displayed (contour 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eatu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geographic map features (not map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pefiles or G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overag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data for points or a gridded cover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, KML, NetCDF, or GRI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the air quality community us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feed for internal applications and/or 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feed for GEOSS via the Air Quality Portal/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 Web Service Data Req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562720" cy="4451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066680" y="1828800"/>
            <a:ext cx="5638680" cy="4510080"/>
            <a:chOff x="1066680" y="1828800"/>
            <a:chExt cx="5638680" cy="451008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1066680" y="1828800"/>
              <a:ext cx="563868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62360" y="2743200"/>
              <a:ext cx="838080" cy="45720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54864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RNow-International “GIS Services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00160" y="1457280"/>
            <a:ext cx="8772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ML files (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AIRNow currently has national K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ditions, today/tomorrow air quality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KML files and/or web service calls will be available in AIRNow-Internation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KML initially versus web mapping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applications can use K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se KML on y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others to view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develop versus building web based GIS system to visuali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files will be available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gle Ma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7652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alifor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GoogleMap1.jpg"/>
          <p:cNvPicPr/>
          <p:nvPr/>
        </p:nvPicPr>
        <p:blipFill>
          <a:blip r:embed="rId2"/>
          <a:srcRect l="0" t="0" r="12992" b="5769"/>
          <a:stretch/>
        </p:blipFill>
        <p:spPr>
          <a:xfrm>
            <a:off x="457200" y="1371600"/>
            <a:ext cx="3722760" cy="4343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GoogleMap2.jpg"/>
          <p:cNvPicPr/>
          <p:nvPr/>
        </p:nvPicPr>
        <p:blipFill>
          <a:blip r:embed="rId3"/>
          <a:srcRect l="0" t="0" r="2126" b="6761"/>
          <a:stretch/>
        </p:blipFill>
        <p:spPr>
          <a:xfrm>
            <a:off x="4800600" y="137160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65530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-Interna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AIRNow-International in Shanghai –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existing AIRNow system in United States -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ilding the ‘community’ – lat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forum for exchange – collaborative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each to current partners – share/exchang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r GEOSS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at World Expo in Shang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develop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interest in future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ng 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system to future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data sharing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42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unit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 Chin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the sharing air quality data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3320"/>
            <a:ext cx="9144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IRNow-Internat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122868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" y="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3250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AIRNow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design of the U.S. AIRNo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 is the national real-time reporting and forecasting system for air quality for th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, process, map, and distribute real-time environmental information (not just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SQL Server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IS-based mapping software (ES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patial, World-wide mapp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other datasets (e.g., multiple pollutants, aq model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us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Manag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" y="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 approach...Web 2.0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ly distribu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lexibility (sites, geographic extent, parameters, date/time, units, duration, and aggr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CSV, KML, NetCDF, GRIB2, Shapefiles,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t with open components/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adopted by agencies/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angu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 flexible, and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or leveraging tool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6720" y="1260360"/>
            <a:ext cx="1828800" cy="45720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14720" y="1260360"/>
            <a:ext cx="4703760" cy="457200"/>
          </a:xfrm>
          <a:prstGeom prst="rect">
            <a:avLst/>
          </a:pr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18480" y="1258920"/>
            <a:ext cx="1939680" cy="45720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80" y="5322960"/>
            <a:ext cx="1325880" cy="944640"/>
          </a:xfrm>
          <a:prstGeom prst="roundRect">
            <a:avLst>
              <a:gd name="adj" fmla="val 16667"/>
            </a:avLst>
          </a:prstGeom>
          <a:solidFill>
            <a:srgbClr val="c0c0c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1680" y="1887480"/>
            <a:ext cx="6016680" cy="4622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52720" y="2206800"/>
            <a:ext cx="3048120" cy="974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6320" y="3213000"/>
            <a:ext cx="1265400" cy="1609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D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0360" y="3141720"/>
            <a:ext cx="1193760" cy="163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6480" y="3584520"/>
            <a:ext cx="1163520" cy="163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17960" y="5597640"/>
            <a:ext cx="1066680" cy="761760"/>
            <a:chOff x="3117960" y="5597640"/>
            <a:chExt cx="1066680" cy="761760"/>
          </a:xfrm>
        </p:grpSpPr>
        <p:grpSp>
          <p:nvGrpSpPr>
            <p:cNvPr id="72" name=""/>
            <p:cNvGrpSpPr/>
            <p:nvPr/>
          </p:nvGrpSpPr>
          <p:grpSpPr>
            <a:xfrm>
              <a:off x="3117960" y="5597640"/>
              <a:ext cx="1066680" cy="761760"/>
              <a:chOff x="3117960" y="5597640"/>
              <a:chExt cx="1066680" cy="761760"/>
            </a:xfrm>
          </p:grpSpPr>
          <p:sp>
            <p:nvSpPr>
              <p:cNvPr id="73" name=""/>
              <p:cNvSpPr/>
              <p:nvPr/>
            </p:nvSpPr>
            <p:spPr>
              <a:xfrm>
                <a:off x="3117960" y="6130800"/>
                <a:ext cx="1066680" cy="2286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17960" y="5726160"/>
                <a:ext cx="1066680" cy="50940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17960" y="5597640"/>
                <a:ext cx="1066680" cy="2286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117960" y="57150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4640" y="573084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2400" y="4164120"/>
            <a:ext cx="828000" cy="280080"/>
            <a:chOff x="122400" y="4164120"/>
            <a:chExt cx="828000" cy="280080"/>
          </a:xfrm>
        </p:grpSpPr>
        <p:sp>
          <p:nvSpPr>
            <p:cNvPr id="79" name=""/>
            <p:cNvSpPr/>
            <p:nvPr/>
          </p:nvSpPr>
          <p:spPr>
            <a:xfrm flipV="1">
              <a:off x="122400" y="4242240"/>
              <a:ext cx="456480" cy="20196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99320" y="4242600"/>
              <a:ext cx="81720" cy="10188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00400" y="4164120"/>
              <a:ext cx="450000" cy="18072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20232600">
            <a:off x="167040" y="4339800"/>
            <a:ext cx="88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6160" y="5076720"/>
            <a:ext cx="107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0" idx="4"/>
            <a:endCxn id="74" idx="3"/>
          </p:cNvCxnSpPr>
          <p:nvPr/>
        </p:nvCxnSpPr>
        <p:spPr>
          <a:xfrm rot="5400000">
            <a:off x="4207680" y="5191200"/>
            <a:ext cx="767520" cy="81504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85" name=""/>
          <p:cNvCxnSpPr>
            <a:stCxn id="68" idx="4"/>
            <a:endCxn id="74" idx="1"/>
          </p:cNvCxnSpPr>
          <p:nvPr/>
        </p:nvCxnSpPr>
        <p:spPr>
          <a:xfrm flipH="1" rot="16200000">
            <a:off x="2233440" y="5097960"/>
            <a:ext cx="1159560" cy="60876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86" name=""/>
          <p:cNvCxnSpPr>
            <a:stCxn id="69" idx="4"/>
            <a:endCxn id="74" idx="3"/>
          </p:cNvCxnSpPr>
          <p:nvPr/>
        </p:nvCxnSpPr>
        <p:spPr>
          <a:xfrm rot="5400000">
            <a:off x="4890240" y="4065840"/>
            <a:ext cx="1210320" cy="262296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grpSp>
        <p:nvGrpSpPr>
          <p:cNvPr id="87" name=""/>
          <p:cNvGrpSpPr/>
          <p:nvPr/>
        </p:nvGrpSpPr>
        <p:grpSpPr>
          <a:xfrm>
            <a:off x="125280" y="3117960"/>
            <a:ext cx="943200" cy="663480"/>
            <a:chOff x="125280" y="3117960"/>
            <a:chExt cx="943200" cy="663480"/>
          </a:xfrm>
        </p:grpSpPr>
        <p:sp>
          <p:nvSpPr>
            <p:cNvPr id="88" name=""/>
            <p:cNvSpPr/>
            <p:nvPr/>
          </p:nvSpPr>
          <p:spPr>
            <a:xfrm>
              <a:off x="125280" y="311796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5760" y="317196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800" y="321480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840" y="3279960"/>
              <a:ext cx="755640" cy="5014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rot="1183200">
            <a:off x="7916040" y="360180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785000" y="2467080"/>
            <a:ext cx="943200" cy="663480"/>
            <a:chOff x="7785000" y="2467080"/>
            <a:chExt cx="943200" cy="663480"/>
          </a:xfrm>
        </p:grpSpPr>
        <p:sp>
          <p:nvSpPr>
            <p:cNvPr id="94" name=""/>
            <p:cNvSpPr/>
            <p:nvPr/>
          </p:nvSpPr>
          <p:spPr>
            <a:xfrm>
              <a:off x="7785000" y="246708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45480" y="252108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13520" y="256392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72560" y="2629080"/>
              <a:ext cx="755640" cy="5014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844400" y="4299120"/>
            <a:ext cx="1114920" cy="1099440"/>
            <a:chOff x="7844400" y="4299120"/>
            <a:chExt cx="1114920" cy="1099440"/>
          </a:xfrm>
        </p:grpSpPr>
        <p:sp>
          <p:nvSpPr>
            <p:cNvPr id="99" name=""/>
            <p:cNvSpPr/>
            <p:nvPr/>
          </p:nvSpPr>
          <p:spPr>
            <a:xfrm>
              <a:off x="7967520" y="4728960"/>
              <a:ext cx="833400" cy="669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4400" y="429912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p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age layer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280" y="131436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puts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, QA, Reporting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14480" y="1498680"/>
            <a:ext cx="9079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559560" y="1490760"/>
            <a:ext cx="9079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50200" y="601344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Outputs will conform to standards to promote sharing and interoperabil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85760" y="3595680"/>
            <a:ext cx="380880" cy="922320"/>
            <a:chOff x="1085760" y="3595680"/>
            <a:chExt cx="380880" cy="922320"/>
          </a:xfrm>
        </p:grpSpPr>
        <p:sp>
          <p:nvSpPr>
            <p:cNvPr id="106" name=""/>
            <p:cNvSpPr/>
            <p:nvPr/>
          </p:nvSpPr>
          <p:spPr>
            <a:xfrm rot="5400000">
              <a:off x="925200" y="3976560"/>
              <a:ext cx="922320" cy="160200"/>
            </a:xfrm>
            <a:prstGeom prst="triangle">
              <a:avLst>
                <a:gd name="adj" fmla="val 50000"/>
              </a:avLst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1025280" y="3938760"/>
              <a:ext cx="343080" cy="222120"/>
            </a:xfrm>
            <a:prstGeom prst="rect">
              <a:avLst/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86560" y="3544920"/>
            <a:ext cx="380880" cy="922320"/>
            <a:chOff x="7486560" y="3544920"/>
            <a:chExt cx="380880" cy="922320"/>
          </a:xfrm>
        </p:grpSpPr>
        <p:sp>
          <p:nvSpPr>
            <p:cNvPr id="109" name=""/>
            <p:cNvSpPr/>
            <p:nvPr/>
          </p:nvSpPr>
          <p:spPr>
            <a:xfrm rot="5400000">
              <a:off x="7326000" y="3925800"/>
              <a:ext cx="922320" cy="160200"/>
            </a:xfrm>
            <a:prstGeom prst="triangle">
              <a:avLst>
                <a:gd name="adj" fmla="val 50000"/>
              </a:avLst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7426080" y="3888000"/>
              <a:ext cx="343080" cy="222120"/>
            </a:xfrm>
            <a:prstGeom prst="rect">
              <a:avLst/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2160" y="5425920"/>
            <a:ext cx="1274040" cy="796680"/>
            <a:chOff x="92160" y="5425920"/>
            <a:chExt cx="1274040" cy="796680"/>
          </a:xfrm>
        </p:grpSpPr>
        <p:grpSp>
          <p:nvGrpSpPr>
            <p:cNvPr id="112" name=""/>
            <p:cNvGrpSpPr/>
            <p:nvPr/>
          </p:nvGrpSpPr>
          <p:grpSpPr>
            <a:xfrm>
              <a:off x="128520" y="5668560"/>
              <a:ext cx="283680" cy="77760"/>
              <a:chOff x="128520" y="5668560"/>
              <a:chExt cx="283680" cy="777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28520" y="5668560"/>
                <a:ext cx="16812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35800" y="5673600"/>
                <a:ext cx="6156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28240" y="5673240"/>
                <a:ext cx="1839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09520" y="5819760"/>
              <a:ext cx="119160" cy="188640"/>
            </a:xfrm>
            <a:prstGeom prst="ellipse">
              <a:avLst/>
            </a:prstGeom>
            <a:solidFill>
              <a:srgbClr val="cc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00" y="54259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9320" y="5611680"/>
              <a:ext cx="80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web ser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760" y="5811840"/>
              <a:ext cx="60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92160" y="6104880"/>
              <a:ext cx="295560" cy="2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30480" y="6006960"/>
              <a:ext cx="103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ata/info transf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000" y="5456160"/>
              <a:ext cx="133200" cy="152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046000" y="3427200"/>
            <a:ext cx="769320" cy="415440"/>
            <a:chOff x="8046000" y="3427200"/>
            <a:chExt cx="769320" cy="415440"/>
          </a:xfrm>
        </p:grpSpPr>
        <p:sp>
          <p:nvSpPr>
            <p:cNvPr id="124" name=""/>
            <p:cNvSpPr/>
            <p:nvPr/>
          </p:nvSpPr>
          <p:spPr>
            <a:xfrm>
              <a:off x="8046000" y="3427200"/>
              <a:ext cx="459000" cy="19692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375760" y="3625560"/>
              <a:ext cx="130320" cy="936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76480" y="3636360"/>
              <a:ext cx="438840" cy="20628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34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Now-International Syst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ceptual and Functional Design &amp; Data Flow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33360" y="1327320"/>
            <a:ext cx="881064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of a growing ‘Communit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AIRNow has always been more than softwa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ooperation and daily interaction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ilot of AIRNow-International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nghai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World Ex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Shanghai visualize, forecast and report air qualit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collaboration and knowledge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local, national and international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to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data standardization via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64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4280" y="5857920"/>
            <a:ext cx="8487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 goal of improving data exchange and access is achieved by building this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95560" y="1214280"/>
            <a:ext cx="8565480" cy="5091840"/>
            <a:chOff x="295560" y="1214280"/>
            <a:chExt cx="8565480" cy="5091840"/>
          </a:xfrm>
        </p:grpSpPr>
        <p:sp>
          <p:nvSpPr>
            <p:cNvPr id="132" name=""/>
            <p:cNvSpPr/>
            <p:nvPr/>
          </p:nvSpPr>
          <p:spPr>
            <a:xfrm>
              <a:off x="1627200" y="2197080"/>
              <a:ext cx="1646280" cy="68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18975000">
              <a:off x="3892320" y="2980440"/>
              <a:ext cx="1636560" cy="427320"/>
            </a:xfrm>
            <a:prstGeom prst="leftRightArrow">
              <a:avLst>
                <a:gd name="adj1" fmla="val 50000"/>
                <a:gd name="adj2" fmla="val 7624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21077400">
              <a:off x="4572000" y="3269160"/>
              <a:ext cx="1636560" cy="427320"/>
            </a:xfrm>
            <a:prstGeom prst="leftRightArrow">
              <a:avLst>
                <a:gd name="adj1" fmla="val 50000"/>
                <a:gd name="adj2" fmla="val 7624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19968000">
              <a:off x="3161880" y="3523680"/>
              <a:ext cx="1636920" cy="426960"/>
            </a:xfrm>
            <a:prstGeom prst="leftRightArrow">
              <a:avLst>
                <a:gd name="adj1" fmla="val 50000"/>
                <a:gd name="adj2" fmla="val 7632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4626000" y="5352840"/>
              <a:ext cx="110160" cy="7293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37" name=""/>
            <p:cNvSpPr/>
            <p:nvPr/>
          </p:nvSpPr>
          <p:spPr>
            <a:xfrm>
              <a:off x="1724040" y="3902040"/>
              <a:ext cx="1481040" cy="73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hangh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‘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5400" y="4627440"/>
              <a:ext cx="1798560" cy="700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N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‘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/>
            <p:nvPr/>
          </p:nvCxnSpPr>
          <p:spPr>
            <a:xfrm>
              <a:off x="1258560" y="1549440"/>
              <a:ext cx="470520" cy="56736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40" name=""/>
            <p:cNvSpPr/>
            <p:nvPr/>
          </p:nvSpPr>
          <p:spPr>
            <a:xfrm>
              <a:off x="4235400" y="570852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8000" y="599112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3200" y="58374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8520" y="147636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440" y="181440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4320" y="158904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136836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3440" y="1214280"/>
              <a:ext cx="22356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4659480"/>
              <a:ext cx="2176560" cy="112212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83800" y="4727520"/>
              <a:ext cx="16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monitoring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3440" y="535320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web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7760" y="5051520"/>
              <a:ext cx="149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data 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944400">
              <a:off x="6857640" y="4804560"/>
              <a:ext cx="208080" cy="19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611280" y="1650960"/>
              <a:ext cx="775440" cy="56736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4" name=""/>
            <p:cNvCxnSpPr/>
            <p:nvPr/>
          </p:nvCxnSpPr>
          <p:spPr>
            <a:xfrm>
              <a:off x="890640" y="1371240"/>
              <a:ext cx="597600" cy="6562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5" name=""/>
            <p:cNvCxnSpPr/>
            <p:nvPr/>
          </p:nvCxnSpPr>
          <p:spPr>
            <a:xfrm>
              <a:off x="699840" y="1968480"/>
              <a:ext cx="788040" cy="4024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6" name=""/>
            <p:cNvCxnSpPr/>
            <p:nvPr/>
          </p:nvCxnSpPr>
          <p:spPr>
            <a:xfrm>
              <a:off x="1004760" y="1752120"/>
              <a:ext cx="534240" cy="42804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7" name=""/>
            <p:cNvCxnSpPr/>
            <p:nvPr/>
          </p:nvCxnSpPr>
          <p:spPr>
            <a:xfrm flipV="1">
              <a:off x="896400" y="4320360"/>
              <a:ext cx="732960" cy="7704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58" name=""/>
            <p:cNvSpPr/>
            <p:nvPr/>
          </p:nvSpPr>
          <p:spPr>
            <a:xfrm flipH="1" flipV="1" rot="7422600">
              <a:off x="716400" y="465084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 rot="7422600">
              <a:off x="675720" y="430848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 rot="7422600">
              <a:off x="329760" y="453204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V="1">
              <a:off x="542520" y="4471560"/>
              <a:ext cx="877320" cy="13320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62" name=""/>
            <p:cNvSpPr/>
            <p:nvPr/>
          </p:nvSpPr>
          <p:spPr>
            <a:xfrm flipH="1" flipV="1" rot="7422600">
              <a:off x="410040" y="492696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7422600">
              <a:off x="721080" y="504612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"/>
            <p:cNvCxnSpPr/>
            <p:nvPr/>
          </p:nvCxnSpPr>
          <p:spPr>
            <a:xfrm flipV="1">
              <a:off x="619920" y="4662000"/>
              <a:ext cx="902160" cy="3304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65" name=""/>
            <p:cNvCxnSpPr/>
            <p:nvPr/>
          </p:nvCxnSpPr>
          <p:spPr>
            <a:xfrm flipV="1">
              <a:off x="933840" y="4661640"/>
              <a:ext cx="772200" cy="4327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66" name=""/>
            <p:cNvCxnSpPr/>
            <p:nvPr/>
          </p:nvCxnSpPr>
          <p:spPr>
            <a:xfrm flipV="1">
              <a:off x="923760" y="4513320"/>
              <a:ext cx="651960" cy="20700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67" name=""/>
            <p:cNvSpPr/>
            <p:nvPr/>
          </p:nvSpPr>
          <p:spPr>
            <a:xfrm flipH="1" flipV="1" rot="6634200">
              <a:off x="720360" y="534024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6634200">
              <a:off x="1043280" y="537516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>
              <a:off x="912240" y="4848480"/>
              <a:ext cx="803520" cy="5266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0" name=""/>
            <p:cNvCxnSpPr/>
            <p:nvPr/>
          </p:nvCxnSpPr>
          <p:spPr>
            <a:xfrm flipV="1">
              <a:off x="1240920" y="4805640"/>
              <a:ext cx="653400" cy="596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1" name=""/>
            <p:cNvCxnSpPr>
              <a:stCxn id="140" idx="7"/>
            </p:cNvCxnSpPr>
            <p:nvPr/>
          </p:nvCxnSpPr>
          <p:spPr>
            <a:xfrm flipV="1">
              <a:off x="4425840" y="5358960"/>
              <a:ext cx="148320" cy="3801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2" name=""/>
            <p:cNvCxnSpPr>
              <a:stCxn id="142" idx="0"/>
            </p:cNvCxnSpPr>
            <p:nvPr/>
          </p:nvCxnSpPr>
          <p:spPr>
            <a:xfrm flipV="1">
              <a:off x="4925880" y="5349600"/>
              <a:ext cx="38880" cy="4881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3" name=""/>
            <p:cNvCxnSpPr/>
            <p:nvPr/>
          </p:nvCxnSpPr>
          <p:spPr>
            <a:xfrm flipH="1" flipV="1">
              <a:off x="5649480" y="5362200"/>
              <a:ext cx="215280" cy="6357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4" name=""/>
            <p:cNvCxnSpPr/>
            <p:nvPr/>
          </p:nvCxnSpPr>
          <p:spPr>
            <a:xfrm flipH="1" flipV="1">
              <a:off x="5395680" y="5374440"/>
              <a:ext cx="189360" cy="72468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5" name=""/>
            <p:cNvCxnSpPr/>
            <p:nvPr/>
          </p:nvCxnSpPr>
          <p:spPr>
            <a:xfrm flipH="1" flipV="1">
              <a:off x="5192280" y="5349240"/>
              <a:ext cx="65520" cy="5943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76" name=""/>
            <p:cNvSpPr/>
            <p:nvPr/>
          </p:nvSpPr>
          <p:spPr>
            <a:xfrm rot="1365000">
              <a:off x="3289320" y="4451400"/>
              <a:ext cx="917640" cy="368280"/>
            </a:xfrm>
            <a:prstGeom prst="leftRightArrow">
              <a:avLst>
                <a:gd name="adj1" fmla="val 50000"/>
                <a:gd name="adj2" fmla="val 4960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3049800">
              <a:off x="2957040" y="3393000"/>
              <a:ext cx="2373480" cy="427320"/>
            </a:xfrm>
            <a:prstGeom prst="leftRightArrow">
              <a:avLst>
                <a:gd name="adj1" fmla="val 50000"/>
                <a:gd name="adj2" fmla="val 11057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20920" y="2975040"/>
              <a:ext cx="406440" cy="850680"/>
            </a:xfrm>
            <a:prstGeom prst="upDownArrow">
              <a:avLst>
                <a:gd name="adj1" fmla="val 50000"/>
                <a:gd name="adj2" fmla="val 4166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7760" y="3294000"/>
              <a:ext cx="2090880" cy="59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 Narrow"/>
                </a:rPr>
                <a:t>GEOSS-Regist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 Narrow"/>
                </a:rPr>
                <a:t>Web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30960" y="2938320"/>
              <a:ext cx="1798560" cy="700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su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1814400"/>
              <a:ext cx="1798920" cy="700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vi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>
              <a:off x="6744960" y="5231880"/>
              <a:ext cx="432360" cy="2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83" name=""/>
            <p:cNvSpPr/>
            <p:nvPr/>
          </p:nvSpPr>
          <p:spPr>
            <a:xfrm>
              <a:off x="6708600" y="5400720"/>
              <a:ext cx="520920" cy="235080"/>
            </a:xfrm>
            <a:prstGeom prst="leftRightArrow">
              <a:avLst>
                <a:gd name="adj1" fmla="val 50000"/>
                <a:gd name="adj2" fmla="val 4411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9944400">
              <a:off x="5483160" y="60786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9944400">
              <a:off x="5790600" y="5971680"/>
              <a:ext cx="22356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120" y="59310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-International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4413240" y="2069640"/>
            <a:ext cx="0" cy="365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07600">
            <a:off x="4673880" y="2335320"/>
            <a:ext cx="383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9945800">
            <a:off x="4041000" y="3287520"/>
            <a:ext cx="87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368520"/>
            <a:ext cx="16200" cy="176220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20800" y="406728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97200">
            <a:off x="6936840" y="383184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861320" y="3416400"/>
            <a:ext cx="723960" cy="485280"/>
            <a:chOff x="7861320" y="3416400"/>
            <a:chExt cx="723960" cy="485280"/>
          </a:xfrm>
        </p:grpSpPr>
        <p:grpSp>
          <p:nvGrpSpPr>
            <p:cNvPr id="195" name=""/>
            <p:cNvGrpSpPr/>
            <p:nvPr/>
          </p:nvGrpSpPr>
          <p:grpSpPr>
            <a:xfrm>
              <a:off x="7861320" y="3416400"/>
              <a:ext cx="723960" cy="485280"/>
              <a:chOff x="7861320" y="3416400"/>
              <a:chExt cx="723960" cy="485280"/>
            </a:xfrm>
          </p:grpSpPr>
          <p:sp>
            <p:nvSpPr>
              <p:cNvPr id="196" name=""/>
              <p:cNvSpPr/>
              <p:nvPr/>
            </p:nvSpPr>
            <p:spPr>
              <a:xfrm>
                <a:off x="7861320" y="3756240"/>
                <a:ext cx="723960" cy="145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61320" y="3498120"/>
                <a:ext cx="723960" cy="3247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61320" y="3416400"/>
                <a:ext cx="723960" cy="145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861320" y="3490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85280" y="3501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948080" y="35575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709040" y="4425840"/>
            <a:ext cx="688680" cy="412920"/>
            <a:chOff x="7709040" y="4425840"/>
            <a:chExt cx="688680" cy="412920"/>
          </a:xfrm>
        </p:grpSpPr>
        <p:grpSp>
          <p:nvGrpSpPr>
            <p:cNvPr id="203" name=""/>
            <p:cNvGrpSpPr/>
            <p:nvPr/>
          </p:nvGrpSpPr>
          <p:grpSpPr>
            <a:xfrm>
              <a:off x="7709040" y="4425840"/>
              <a:ext cx="688680" cy="412920"/>
              <a:chOff x="7709040" y="4425840"/>
              <a:chExt cx="688680" cy="412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709040" y="4714920"/>
                <a:ext cx="68868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09040" y="4495320"/>
                <a:ext cx="68868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09040" y="4425840"/>
                <a:ext cx="68868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709040" y="44892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97720" y="44978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18400" y="4425840"/>
            <a:ext cx="689040" cy="412920"/>
            <a:chOff x="7718400" y="4425840"/>
            <a:chExt cx="689040" cy="412920"/>
          </a:xfrm>
        </p:grpSpPr>
        <p:grpSp>
          <p:nvGrpSpPr>
            <p:cNvPr id="210" name=""/>
            <p:cNvGrpSpPr/>
            <p:nvPr/>
          </p:nvGrpSpPr>
          <p:grpSpPr>
            <a:xfrm>
              <a:off x="7718400" y="4425840"/>
              <a:ext cx="689040" cy="412920"/>
              <a:chOff x="7718400" y="4425840"/>
              <a:chExt cx="689040" cy="412920"/>
            </a:xfrm>
          </p:grpSpPr>
          <p:sp>
            <p:nvSpPr>
              <p:cNvPr id="211" name=""/>
              <p:cNvSpPr/>
              <p:nvPr/>
            </p:nvSpPr>
            <p:spPr>
              <a:xfrm>
                <a:off x="7718400" y="47149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18400" y="449532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18400" y="44258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718400" y="44892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07440" y="44978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327880" y="3987720"/>
            <a:ext cx="689040" cy="412920"/>
            <a:chOff x="8327880" y="3987720"/>
            <a:chExt cx="689040" cy="412920"/>
          </a:xfrm>
        </p:grpSpPr>
        <p:grpSp>
          <p:nvGrpSpPr>
            <p:cNvPr id="217" name=""/>
            <p:cNvGrpSpPr/>
            <p:nvPr/>
          </p:nvGrpSpPr>
          <p:grpSpPr>
            <a:xfrm>
              <a:off x="8327880" y="3987720"/>
              <a:ext cx="689040" cy="412920"/>
              <a:chOff x="8327880" y="3987720"/>
              <a:chExt cx="689040" cy="412920"/>
            </a:xfrm>
          </p:grpSpPr>
          <p:sp>
            <p:nvSpPr>
              <p:cNvPr id="218" name=""/>
              <p:cNvSpPr/>
              <p:nvPr/>
            </p:nvSpPr>
            <p:spPr>
              <a:xfrm>
                <a:off x="8327880" y="4276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7880" y="405720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27880" y="39877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327880" y="405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16920" y="40597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37600" y="3987720"/>
            <a:ext cx="689040" cy="412920"/>
            <a:chOff x="8337600" y="3987720"/>
            <a:chExt cx="689040" cy="412920"/>
          </a:xfrm>
        </p:grpSpPr>
        <p:grpSp>
          <p:nvGrpSpPr>
            <p:cNvPr id="224" name=""/>
            <p:cNvGrpSpPr/>
            <p:nvPr/>
          </p:nvGrpSpPr>
          <p:grpSpPr>
            <a:xfrm>
              <a:off x="8337600" y="3987720"/>
              <a:ext cx="689040" cy="412920"/>
              <a:chOff x="8337600" y="3987720"/>
              <a:chExt cx="689040" cy="412920"/>
            </a:xfrm>
          </p:grpSpPr>
          <p:sp>
            <p:nvSpPr>
              <p:cNvPr id="225" name=""/>
              <p:cNvSpPr/>
              <p:nvPr/>
            </p:nvSpPr>
            <p:spPr>
              <a:xfrm>
                <a:off x="8337600" y="4276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37600" y="405720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37600" y="39877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337600" y="405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26640" y="40597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08800" y="2873520"/>
            <a:ext cx="689040" cy="412560"/>
            <a:chOff x="8308800" y="2873520"/>
            <a:chExt cx="689040" cy="412560"/>
          </a:xfrm>
        </p:grpSpPr>
        <p:grpSp>
          <p:nvGrpSpPr>
            <p:cNvPr id="231" name=""/>
            <p:cNvGrpSpPr/>
            <p:nvPr/>
          </p:nvGrpSpPr>
          <p:grpSpPr>
            <a:xfrm>
              <a:off x="8308800" y="2873520"/>
              <a:ext cx="689040" cy="412560"/>
              <a:chOff x="8308800" y="2873520"/>
              <a:chExt cx="689040" cy="412560"/>
            </a:xfrm>
          </p:grpSpPr>
          <p:sp>
            <p:nvSpPr>
              <p:cNvPr id="232" name=""/>
              <p:cNvSpPr/>
              <p:nvPr/>
            </p:nvSpPr>
            <p:spPr>
              <a:xfrm>
                <a:off x="8308800" y="31622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08800" y="294300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08800" y="28735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8308800" y="2936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997840" y="29455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318520" y="2873520"/>
            <a:ext cx="689040" cy="412560"/>
            <a:chOff x="8318520" y="2873520"/>
            <a:chExt cx="689040" cy="412560"/>
          </a:xfrm>
        </p:grpSpPr>
        <p:grpSp>
          <p:nvGrpSpPr>
            <p:cNvPr id="238" name=""/>
            <p:cNvGrpSpPr/>
            <p:nvPr/>
          </p:nvGrpSpPr>
          <p:grpSpPr>
            <a:xfrm>
              <a:off x="8318520" y="2873520"/>
              <a:ext cx="689040" cy="412560"/>
              <a:chOff x="8318520" y="2873520"/>
              <a:chExt cx="689040" cy="412560"/>
            </a:xfrm>
          </p:grpSpPr>
          <p:sp>
            <p:nvSpPr>
              <p:cNvPr id="239" name=""/>
              <p:cNvSpPr/>
              <p:nvPr/>
            </p:nvSpPr>
            <p:spPr>
              <a:xfrm>
                <a:off x="8318520" y="31622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18520" y="294300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18520" y="28735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8318520" y="2936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07560" y="29455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18520" y="4854600"/>
            <a:ext cx="689040" cy="412560"/>
            <a:chOff x="8318520" y="4854600"/>
            <a:chExt cx="689040" cy="412560"/>
          </a:xfrm>
        </p:grpSpPr>
        <p:grpSp>
          <p:nvGrpSpPr>
            <p:cNvPr id="245" name=""/>
            <p:cNvGrpSpPr/>
            <p:nvPr/>
          </p:nvGrpSpPr>
          <p:grpSpPr>
            <a:xfrm>
              <a:off x="8318520" y="4854600"/>
              <a:ext cx="689040" cy="412560"/>
              <a:chOff x="8318520" y="4854600"/>
              <a:chExt cx="689040" cy="412560"/>
            </a:xfrm>
          </p:grpSpPr>
          <p:sp>
            <p:nvSpPr>
              <p:cNvPr id="246" name=""/>
              <p:cNvSpPr/>
              <p:nvPr/>
            </p:nvSpPr>
            <p:spPr>
              <a:xfrm>
                <a:off x="8318520" y="51433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18520" y="492408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18520" y="48546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318520" y="4917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007560" y="49266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327880" y="4854600"/>
            <a:ext cx="689040" cy="412560"/>
            <a:chOff x="8327880" y="4854600"/>
            <a:chExt cx="689040" cy="412560"/>
          </a:xfrm>
        </p:grpSpPr>
        <p:grpSp>
          <p:nvGrpSpPr>
            <p:cNvPr id="252" name=""/>
            <p:cNvGrpSpPr/>
            <p:nvPr/>
          </p:nvGrpSpPr>
          <p:grpSpPr>
            <a:xfrm>
              <a:off x="8327880" y="4854600"/>
              <a:ext cx="689040" cy="412560"/>
              <a:chOff x="8327880" y="4854600"/>
              <a:chExt cx="689040" cy="412560"/>
            </a:xfrm>
          </p:grpSpPr>
          <p:sp>
            <p:nvSpPr>
              <p:cNvPr id="253" name=""/>
              <p:cNvSpPr/>
              <p:nvPr/>
            </p:nvSpPr>
            <p:spPr>
              <a:xfrm>
                <a:off x="8327880" y="51433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7880" y="492408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7880" y="48546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327880" y="4917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16920" y="49266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775640" y="2359080"/>
            <a:ext cx="689040" cy="412560"/>
            <a:chOff x="7775640" y="2359080"/>
            <a:chExt cx="689040" cy="412560"/>
          </a:xfrm>
        </p:grpSpPr>
        <p:grpSp>
          <p:nvGrpSpPr>
            <p:cNvPr id="259" name=""/>
            <p:cNvGrpSpPr/>
            <p:nvPr/>
          </p:nvGrpSpPr>
          <p:grpSpPr>
            <a:xfrm>
              <a:off x="7775640" y="2359080"/>
              <a:ext cx="689040" cy="412560"/>
              <a:chOff x="7775640" y="2359080"/>
              <a:chExt cx="689040" cy="412560"/>
            </a:xfrm>
          </p:grpSpPr>
          <p:sp>
            <p:nvSpPr>
              <p:cNvPr id="260" name=""/>
              <p:cNvSpPr/>
              <p:nvPr/>
            </p:nvSpPr>
            <p:spPr>
              <a:xfrm>
                <a:off x="7775640" y="2647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75640" y="242856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75640" y="235908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775640" y="24224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64680" y="243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785000" y="2359080"/>
            <a:ext cx="689040" cy="412560"/>
            <a:chOff x="7785000" y="2359080"/>
            <a:chExt cx="689040" cy="412560"/>
          </a:xfrm>
        </p:grpSpPr>
        <p:grpSp>
          <p:nvGrpSpPr>
            <p:cNvPr id="266" name=""/>
            <p:cNvGrpSpPr/>
            <p:nvPr/>
          </p:nvGrpSpPr>
          <p:grpSpPr>
            <a:xfrm>
              <a:off x="7785000" y="2359080"/>
              <a:ext cx="689040" cy="412560"/>
              <a:chOff x="7785000" y="2359080"/>
              <a:chExt cx="689040" cy="412560"/>
            </a:xfrm>
          </p:grpSpPr>
          <p:sp>
            <p:nvSpPr>
              <p:cNvPr id="267" name=""/>
              <p:cNvSpPr/>
              <p:nvPr/>
            </p:nvSpPr>
            <p:spPr>
              <a:xfrm>
                <a:off x="7785000" y="2647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85000" y="242856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85000" y="235908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85000" y="24224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4040" y="243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733520" y="2443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3898" t="0" r="0" b="37021"/>
          <a:stretch/>
        </p:blipFill>
        <p:spPr>
          <a:xfrm rot="13803600">
            <a:off x="6718320" y="3201840"/>
            <a:ext cx="111744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419800" y="5168880"/>
            <a:ext cx="1623960" cy="91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00720" y="2511360"/>
            <a:ext cx="1652400" cy="881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76560" y="1181160"/>
            <a:ext cx="851040" cy="928440"/>
            <a:chOff x="3976560" y="1181160"/>
            <a:chExt cx="851040" cy="92844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976560" y="1181160"/>
              <a:ext cx="8510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012920" y="17413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ounded Rectangle 96"/>
          <p:cNvSpPr/>
          <p:nvPr/>
        </p:nvSpPr>
        <p:spPr>
          <a:xfrm>
            <a:off x="171360" y="1981080"/>
            <a:ext cx="3429000" cy="456264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562640"/>
              <a:gd name="textAreaBottom" fmla="*/ 4395240 h 4562640"/>
            </a:gdLst>
            <a:ahLst/>
            <a:rect l="textAreaLeft" t="textAreaTop" r="textAreaRight" b="textAreaBottom"/>
            <a:pathLst>
              <a:path w="21600" h="28740">
                <a:moveTo>
                  <a:pt x="3600" y="0"/>
                </a:moveTo>
                <a:arcTo wR="3600" hR="3600" stAng="16200000" swAng="-5400000"/>
                <a:lnTo>
                  <a:pt x="0" y="25140"/>
                </a:lnTo>
                <a:arcTo wR="3600" hR="3600" stAng="10800000" swAng="-5400000"/>
                <a:lnTo>
                  <a:pt x="18000" y="28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2076480" y="3753000"/>
            <a:ext cx="1447920" cy="599760"/>
          </a:xfrm>
          <a:prstGeom prst="rect">
            <a:avLst/>
          </a:prstGeom>
          <a:solidFill>
            <a:srgbClr val="789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ingho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352600" y="2571840"/>
            <a:ext cx="1077840" cy="676080"/>
          </a:xfrm>
          <a:prstGeom prst="rect">
            <a:avLst/>
          </a:prstGeom>
          <a:solidFill>
            <a:srgbClr val="87e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Por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4"/>
          <p:cNvSpPr/>
          <p:nvPr/>
        </p:nvSpPr>
        <p:spPr>
          <a:xfrm>
            <a:off x="391680" y="2125800"/>
            <a:ext cx="232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GEOSS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2440" y="3790800"/>
            <a:ext cx="1523880" cy="2552760"/>
            <a:chOff x="352440" y="3790800"/>
            <a:chExt cx="1523880" cy="2552760"/>
          </a:xfrm>
        </p:grpSpPr>
        <p:sp>
          <p:nvSpPr>
            <p:cNvPr id="284" name="AutoShape 4"/>
            <p:cNvSpPr/>
            <p:nvPr/>
          </p:nvSpPr>
          <p:spPr>
            <a:xfrm>
              <a:off x="352440" y="3790800"/>
              <a:ext cx="1523880" cy="2552760"/>
            </a:xfrm>
            <a:custGeom>
              <a:avLst/>
              <a:gdLst>
                <a:gd name="textAreaLeft" fmla="*/ 42840 w 1523880"/>
                <a:gd name="textAreaRight" fmla="*/ 1481040 w 1523880"/>
                <a:gd name="textAreaTop" fmla="*/ 42840 h 2552760"/>
                <a:gd name="textAreaBottom" fmla="*/ 2509920 h 2552760"/>
              </a:gdLst>
              <a:ahLst/>
              <a:rect l="textAreaLeft" t="textAreaTop" r="textAreaRight" b="textAreaBottom"/>
              <a:pathLst>
                <a:path w="21600" h="36180">
                  <a:moveTo>
                    <a:pt x="2083" y="0"/>
                  </a:moveTo>
                  <a:arcTo wR="2083" hR="2083" stAng="16200000" swAng="-5400000"/>
                  <a:lnTo>
                    <a:pt x="0" y="34097"/>
                  </a:lnTo>
                  <a:arcTo wR="2083" hR="2083" stAng="10800000" swAng="-5400000"/>
                  <a:lnTo>
                    <a:pt x="19517" y="36180"/>
                  </a:lnTo>
                  <a:arcTo wR="2083" hR="2083" stAng="5400000" swAng="-5400000"/>
                  <a:lnTo>
                    <a:pt x="21600" y="2083"/>
                  </a:lnTo>
                  <a:arcTo wR="2083" hR="2083" stAng="0" swAng="-5400000"/>
                  <a:close/>
                </a:path>
              </a:pathLst>
            </a:custGeom>
            <a:solidFill>
              <a:srgbClr val="76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461880" y="4172040"/>
              <a:ext cx="1289160" cy="495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onen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amp; 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60440" y="4743360"/>
              <a:ext cx="1276200" cy="4572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tandards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terop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6"/>
            <p:cNvSpPr/>
            <p:nvPr/>
          </p:nvSpPr>
          <p:spPr>
            <a:xfrm>
              <a:off x="466560" y="5276880"/>
              <a:ext cx="1276560" cy="4093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est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i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7"/>
            <p:cNvSpPr/>
            <p:nvPr/>
          </p:nvSpPr>
          <p:spPr>
            <a:xfrm>
              <a:off x="466560" y="5734080"/>
              <a:ext cx="1276560" cy="4809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ser 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5"/>
            <p:cNvSpPr/>
            <p:nvPr/>
          </p:nvSpPr>
          <p:spPr>
            <a:xfrm>
              <a:off x="533160" y="382104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i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 flipV="1">
            <a:off x="1768320" y="4521240"/>
            <a:ext cx="3625920" cy="11080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436560" y="2428920"/>
            <a:ext cx="971640" cy="485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521160" y="3197160"/>
            <a:ext cx="1854000" cy="8794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044000">
            <a:off x="3939840" y="493380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0051400">
            <a:off x="3764520" y="2325600"/>
            <a:ext cx="383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08560" y="2424240"/>
            <a:ext cx="990360" cy="538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 GEOSS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7320" y="29671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92240" y="4081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6920" y="451944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82880" y="494820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Now-International Cap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786200" y="1181160"/>
            <a:ext cx="3779640" cy="2558880"/>
            <a:chOff x="4786200" y="1181160"/>
            <a:chExt cx="3779640" cy="25588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786200" y="1181160"/>
              <a:ext cx="377964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532560" y="1726200"/>
              <a:ext cx="201600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ML Out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69040" y="3830760"/>
            <a:ext cx="3631320" cy="2604600"/>
            <a:chOff x="5369040" y="3830760"/>
            <a:chExt cx="3631320" cy="260460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5374080" y="3830760"/>
              <a:ext cx="36262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369040" y="6158880"/>
              <a:ext cx="363024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Coverage Service – Point: KML Out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3840" y="1333080"/>
            <a:ext cx="51148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fil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 Value (C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 and GRI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via web service or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QCSV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air quality data ex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S and CAP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Mapp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eatu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overag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L files (Google Earth) and Shape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9:37:02Z</dcterms:created>
  <dc:creator>John E. White - EPA</dc:creator>
  <dc:description>Capabilities and future of AIRNow program and the building of a community to share air quality data worldwide</dc:description>
  <cp:keywords>33rd ISRSE</cp:keywords>
  <dc:language>en-US</dc:language>
  <cp:lastModifiedBy>John E. White</cp:lastModifiedBy>
  <dcterms:modified xsi:type="dcterms:W3CDTF">2009-05-20T11:41:39Z</dcterms:modified>
  <cp:revision>563</cp:revision>
  <dc:subject>AIRNow-International status and capabilities</dc:subject>
  <dc:title>EPA AIRNow-International</dc:title>
</cp:coreProperties>
</file>